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6F996-141C-48AC-86F4-D7D3A35A0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7CA43D-24D8-4B62-B5BE-45A7C556F88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B88-7691-4681-AC2F-9D36786F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58C-2999-4551-AF07-EADF43B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BFD-0A91-46BC-BAEF-396A2C5F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EE7-A880-4C55-99F8-58AD4E7D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BE1-BE0A-4AA7-843F-18D4CADD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8CD1-498C-4FC6-8444-AB4E5CBB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0822-DC5A-4337-B401-E3EF3269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2D9F-516A-4342-9DD9-5E627D5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42BF-7522-494C-B250-13F1DF7B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1B4-CC7A-40DB-9340-A022A0FC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3D9F-A7A0-488B-A703-103801D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1C0-EF3B-4A66-96C8-449220B5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223-C2F9-46A2-9BAF-AA56175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D32-D80A-4F14-837C-D8B5298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60B-5706-41DB-8E96-B6DEAAD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B998-8985-4979-9A4D-B54096AA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735F-3429-41BF-A043-D4A83AB4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94B-F3D8-4AB1-8618-8A135D4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65F-CA5C-4D46-8895-8A965DE6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8AA-8DAA-48E3-9463-759F088A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61A-12EB-47D1-9575-BFF36C8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4B2-4792-4AEB-890A-C1BC9B7D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FD8-3FEA-4357-999F-AE451A5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105-C8D9-4197-8849-B90A651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240851-473A-47C9-813E-B7FF2816EBEB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D57642-F635-4DC1-8D75-D9B68E7C4D58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avim.com/image/34179/" TargetMode="External"/><Relationship Id="rId2" Type="http://schemas.openxmlformats.org/officeDocument/2006/relationships/hyperlink" Target="http://favim.com/image/34179/" TargetMode="External"/><Relationship Id="rId3" Type="http://schemas.openxmlformats.org/officeDocument/2006/relationships/hyperlink" Target="http://www.simplypsychology.org/bruner.html" TargetMode="External"/><Relationship Id="rId4" Type="http://schemas.openxmlformats.org/officeDocument/2006/relationships/hyperlink" Target="http://www.simplypsychology.org/bruner.html" TargetMode="External"/><Relationship Id="rId5" Type="http://schemas.openxmlformats.org/officeDocument/2006/relationships/hyperlink" Target="https://www.gcfdn.org/donors/fundsofthefoundation/proctergamblecharitablegiving/friendsforlifefund/tabid/326/default.aspx" TargetMode="External"/><Relationship Id="rId6" Type="http://schemas.openxmlformats.org/officeDocument/2006/relationships/hyperlink" Target="https://www.gcfdn.org/donors/fundsofthefoundation/proctergamblecharitablegiving/friendsforlifefund/tabid/326/default.aspx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762120" y="1143000"/>
            <a:ext cx="9143640" cy="32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00b0f0"/>
                </a:solidFill>
                <a:latin typeface="HandelGothic"/>
              </a:rPr>
              <a:t>Learning Biology Through the Different Modes of Represent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57400" y="2133720"/>
            <a:ext cx="6479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rm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Topic: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NACTIVE(action-based)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e-School/Kind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8904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The student learns about the cat through imitating the actions of the cat and sometimes the sound of a ca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692000" y="3809880"/>
            <a:ext cx="3889800" cy="290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733560" cy="29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conic ( image-based)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ment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Here the student learn about a cat through ima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Ex. They learn that a cat is a carnivore through the food cha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057400" y="3689280"/>
            <a:ext cx="371448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ymbolic(Ianguage based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[z] Arista Light"/>
              </a:rPr>
              <a:t>In this representation a student learns about the cat by identifying the different body parts of a cat and also through dissecting and defining the internal parts of the ca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131480" y="4038480"/>
            <a:ext cx="3466080" cy="259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635000" y="3792600"/>
            <a:ext cx="4304160" cy="28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Group Members and Task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vin Maruya – reporter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rish Haque – reporter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isdale Barsales – repor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vin Mata – powerpoint mak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ferenc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favim.com/image/34179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www.simplypsychology.org/bruner.ht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https://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www.gcfdn.org/donors/fundsofthefoundation/proctergamblecharitablegiving/friendsforlifefund/tabid/326/default.asp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108</TotalTime>
  <Application>LibreOffice/7.4.7.2$Linux_X86_64 LibreOffice_project/40$Build-2</Application>
  <AppVersion>15.0000</AppVersion>
  <Words>130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3:58:09Z</dcterms:created>
  <dc:creator>Bob Mata</dc:creator>
  <dc:description/>
  <dc:language>en-US</dc:language>
  <cp:lastModifiedBy>Imperialdramon</cp:lastModifiedBy>
  <dcterms:modified xsi:type="dcterms:W3CDTF">2012-07-25T22:16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